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5D9-5332-474A-A871-3E8FAF34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695-00D0-43EA-A607-B7F86C90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E0B-CF4E-43B7-A5B1-99573A99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53D-FD00-4C67-9D85-5B4CB6BF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39A-1D35-42A4-93EA-99ADD9C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A94-5423-46D1-A801-16744138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18A-B1E3-4966-AB96-7EC03A84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95E-982F-4FBC-B8B0-DA5D8519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486-517B-474F-8B05-C8AA240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50B-B570-455E-832E-5965758C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5C0-A10A-43A5-828E-BDE08B36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34D-427C-4DAA-8FCA-AD9E5DE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6DC3-D29B-4056-8E3C-58989CC5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metry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, August 27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gle postu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y angles as acute, obtuse or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ines segments with equal measures 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A pair of opposite rays form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HW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: Lesson 1.3, 1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9:25:26Z</dcterms:created>
  <dc:creator>tstephens</dc:creator>
  <dc:description/>
  <dc:language>en-US</dc:language>
  <cp:lastModifiedBy>tstephens</cp:lastModifiedBy>
  <dcterms:modified xsi:type="dcterms:W3CDTF">2010-08-26T19:25:50Z</dcterms:modified>
  <cp:revision>1</cp:revision>
  <dc:subject/>
  <dc:title>Geometry 1 Thursday, August 27, 2009</dc:title>
</cp:coreProperties>
</file>